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A83-95B9-4CFC-83B0-FEAA0516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1C0E-FBD7-42B3-9EEA-3FB2DDA9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8BF1B-834A-42B4-A0D0-5734C85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0668E-E8B3-405C-9BEE-88928651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AA2E1C-5826-4B6C-9442-F16D7BA8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5C58-C4F8-418A-82D1-17BB27C3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E7806-4446-4A82-B558-6C94E5F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243593-8F3A-48A8-819A-A499154B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3FECD-1291-47A5-BAAC-54B198AFE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3C160-C971-4ECC-8E65-BC199D5B2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05038-F21D-40EC-A709-0BE09136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FC50F-313A-4778-A6B1-A728E7F5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1F07-D9A7-487F-8183-26B0AFED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A751-82CF-4EB5-A626-87356E77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32CFD-437D-4CD1-BEB0-EBA567E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11C0A-6F64-4F9E-B255-DD14A1ED1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D4AE8-FA0F-4B4F-8AF4-9A012FA6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DD48D-E441-4E7A-AAE1-22581B270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36352-47C1-417C-BC36-02BDCB86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55E2E3-F357-4404-9644-773922B9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4EF77-F061-4FF6-9AB3-9847C879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FEE85-A100-4D2F-9076-F40C14DE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AF2B3-35D4-450E-83EF-29088D265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1A7D-C60F-4E59-8369-F4721782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367CC-5394-46F4-906B-5258203E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75C11-F326-4E4C-8A78-08F00222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39CF1-A2D1-4C44-9339-DD1D2104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7B2D4-5F58-418D-A7D9-7C269D0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D9BA7-9803-4CA0-9E1F-EBFD869C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63B76C-8EB9-4837-83A8-64BE51C4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97E48-162F-47E4-B895-822F2EF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27DF-7FE9-4FA6-8B26-3F8C9D03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25E7F-7F86-4F1F-8656-764A31AC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9F1E3-D4EE-4778-84CF-C53E363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E856F-D9C7-4C03-83A8-02632AAD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4CA25-FD04-4BA1-9E1B-1DC13DFC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B8038-56A0-45E1-A351-0ED00EEC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9A8ED4-A08E-45DB-AE57-288858E5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C1E3-7B96-4D66-BFFA-4ECE060A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6C313-F24F-4BF7-8543-7DF6598F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6FC3D-CE0F-466F-90BC-66847803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7A19BF-9AF1-4506-BE63-8F58C9E4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2BD1D-C6CB-47B9-8F79-37F5865B5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91E14-9079-40DB-94A6-A8FBCD6B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AF468-8323-4C00-BE66-68BCC96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1C6B-E382-4E1A-A889-D116DC6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EA7DF-BFF8-486C-A4B6-5C1EFE1B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13583-0068-420F-AEEB-6E92139E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7A0AA-D6AE-4E7E-BE1D-32F7B32F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47114C-59A2-4C60-8C60-3A1EA71A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22AA-255F-4CD5-B986-CC04CC3A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72E06-5A2C-4C34-A4C8-F855F00F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753801-CA04-4C0A-865A-732A9F13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703F7-AD48-492A-A198-83E2AA0F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E576A-7FE0-4E6D-8AAE-6D3A9640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83680C-E415-4EDC-B675-CC924D5E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E082-21A2-42AF-8717-FB2E524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F4685-D586-4AC6-A601-5AC39137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3C2DA-DF6B-4DEB-9153-1BA21F74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F0547-B13E-4B85-8A36-55AD77BC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B0184-B7BA-4908-BAEF-24981854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56957-45C5-4E91-8DC1-F14CB4C9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68518-4199-4165-879C-32A82BAF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C7DAD-CB08-4130-BDF4-C013E2038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2F4ACB-6160-4EF3-9718-3E55F3F12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BD76A9-6B49-462D-BB14-DD497FC1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22F2A4-B3EA-45C3-948B-7100EFF7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B07D9-156E-43C4-861D-C32F841E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0193F-5FD3-42E5-90BB-D46C478DF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1E81A-FD45-4AFC-AAA8-D773EE67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45F663-E207-4B0B-9A00-63FA502F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AD58B-B314-481B-B62C-70D87907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876930-3118-4C3C-8D70-D892457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8F5418-746A-46B0-8E8B-0DE904BF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CBC5BA-EE2F-4838-AAB4-D879528E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872EF9-5EF2-4560-96BD-23F83F70F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EEAD0-DEA9-4C86-A439-B949BB90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89324-B781-41CE-80CA-E1F6ADE6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4D3D-16A3-4A3F-AB65-B6AB9EC6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E28FF-8081-4497-BD51-6DE7842E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62BEF-4894-4D62-A595-276E20F6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2363A-6425-499C-B4A2-1B67107E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DD713-E23C-49E4-92BF-DBD8388E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88CE11-33A4-4DC4-A3B8-718942EF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DDD328-E64B-4CD4-BF0F-29695476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4193D-E706-44C9-BCD2-F1473204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7A9DDF-C593-4E07-B8D0-C2A63339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9B5E1-AD9D-40B7-A671-1BB2E09D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FE71C0-D5C1-47B9-9C39-BE7A23AD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0258-88CD-452F-8333-5430A3CA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B7D8B4-22C7-46B5-9CE3-CCEBE6AE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92313-A2A4-4201-8B86-CFF5B51D9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8A2357-A68B-41D2-AF24-F609F685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3C5412-6136-4AF0-863A-AEF572AA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115E2-E552-4263-915F-5A4A7C74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89C51-C73D-4F77-BFCA-B23C0B3F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57F0B0-86D8-42A0-9A81-33775E7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5D8F9-68DD-4E00-835A-39D0D95E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394176-1C3A-427B-B8C4-A6DBD004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638FE1-C8B7-45D6-AE7C-9DB70F39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2402-01DF-472B-972C-45DE1F24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385DF4-C6E2-4F0E-AD9C-8451AE77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A0D736-272C-4787-B170-8A65438A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240C74-F271-4E75-84D6-63375C3BE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E0B426-5231-4764-9684-AB2F73CD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0E35AD-940B-4F6A-9B5E-8A363D29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7E503-DE75-41A6-83BB-CABBCA5D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59AF19-D8AF-42AA-BC50-B8719612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C50C11-D23E-450C-A8EF-D0484822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60F409-4A6C-47B3-8F3D-62841F9F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B99447-F026-4511-BB63-6669EDF2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E18-461D-4D29-9565-4B03FA1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67E-6256-4C63-9341-93572FD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17C30C-BCC9-4594-8C39-5F3D50D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A6647-8310-45F2-809B-2D62C72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04E658-874B-46D7-8A31-45C82859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86FEDD-F0BA-4AE9-AC09-29C444256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4B8DF-4BDC-440F-88E6-17840069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965480-93EA-41C8-B23A-5C6F69D5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BF11B-2159-451E-AD55-D6E503DC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CC7B32-FB1C-4EDF-997F-DF457C45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7DC736-4BAB-46E4-9292-82A71536A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4DECC-AEF8-485D-8DB4-EFEC739E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6DAC-B59C-4F6C-A09E-43743481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07188-D1B8-4B3F-A843-E743DC65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B7DE1F-D3CC-46F9-950F-5A1CAEFE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0DCFA9-FC6C-4393-90C9-0BD64F87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E90C0A-4ED7-4EAF-B69D-2B134413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F57C8F-9881-4A6C-B13E-A8FA0225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AFA1C-93EF-42AC-ACA5-54D4F132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F9A3CA-1873-4A51-B9FA-43C7F7E6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E354DB-1E0C-42BF-B1DC-DA90C0DD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CB6C95-786B-4D7A-B05E-8A3C4F38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B96AF-EECC-4D1D-A254-196739F5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4E7F-E06C-422B-935A-DB657346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920019-7F2E-4349-8889-2E670D40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300A39-F3AE-4218-A624-9C892037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2F0F38-D728-4DBA-B3E4-53EF6A1E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758F5A-34D9-42DA-B90C-A8BD0307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41D35-458F-4E88-9711-4336CF74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2EBB9-B802-4957-8D69-107B003B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3E9E77-4682-44E1-8D59-B1B09E9D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761784-9FEC-4047-8ADB-58B0DB3E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CAD0A9-8C4E-495E-A4CC-ED6175F4F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76DF1-E39A-4D7D-AB2E-A3788DEB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65D0-D812-425C-B8F8-92572AAF4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04DDDE-DA78-4317-BB91-B2B9E71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92270-3785-494A-8DA6-BFCCCA87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CF8BD-CDF5-4880-91AB-84BF14F6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E8702D-26B0-4D51-ABF7-6166B692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3E09DB-475A-49CF-97F6-E04C165B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10A0C0-EB05-4C2C-9CBF-B35B04C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F5C6AF-A55F-4AD4-A480-BBCFCC64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FB114-863E-4F7A-AC23-CAD142DB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982F2-6611-4DDB-BB95-D099C065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58A63C-FF13-4AD6-A711-B3FCE99E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2C15-F6DF-42C9-8F95-6AF34A93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C0D897-C612-4B4E-9961-D8C4A062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591870-F5D1-472A-9D05-6A77F490D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A90E5-7799-48CC-B8D7-DA9CD654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4BDB5-2214-49C0-96CF-8B8E691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36B25D-4119-40EC-87CB-FBC7B24E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51237-36A3-404F-A231-63843245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EACCC2-5FA4-49AF-8F4B-86EA3AEA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DDA6BB-C118-418A-A056-7BF723B9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182474-59D4-4071-ADD6-6CF32A45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84518A-CBD4-484F-AE2E-90139A5D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36BA31-9846-49A8-9EC8-88E1163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7C450-EC3E-4229-91CD-F7118C10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704F0A-583C-43B3-A158-F19C0292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AF3-613F-44C1-BC3F-8CCBFE5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BE39-1571-41CB-A609-4E0DE0F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9AA4E-79C3-4B77-B87D-8B308360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0EF87-06C7-44A4-BBB0-B080A60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B983-A483-4929-A35A-C00938D6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7E53-5856-4EDD-B2CB-F814E543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954FB-8F15-4805-A7A1-AE788E03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C95E-5D3C-4B15-984A-8E2117104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EC1F1-84C7-4A9E-A8FF-098E224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D3F7-D9C3-4994-AA90-C3B2BB72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8D297-1336-4059-8446-E4F05DD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0EF8B-7276-4D90-8D83-7CDF3AE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AEA2-DA31-4202-A978-A3CA869B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F683-7454-48F1-9064-066DB3DEE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F25AD-FCA5-4549-BF99-A54F2D80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D2B-7C12-4A71-86F6-A6D26561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F1B0D-227F-4601-8D78-48BA942E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67B1E-F04F-4495-BCDB-470048C0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4162A-BE98-44E0-AF61-C134F12E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9B40E-30A0-4202-9DEC-47549D5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79BC1-96F7-4E27-AC66-9F5342EC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A5984-19D0-4AAF-83D8-6CA21558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686E7-51A3-4882-B412-BCCCB095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57B00-C1DA-453A-9FA1-F726C0AB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9748D-B33D-4570-A1BF-3A74B72D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D4BCA-B436-4C80-8563-7F6EFE5ED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DC2-CC7B-4B19-8AAE-ED27D8F4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71279-E5A2-46EC-BA71-905149294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2E8D3-9226-405D-A1D3-3F2567A3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77A94-73E7-4E0A-BE93-55E821AE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01F15-4A96-4326-8254-AD503B5E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BFA9D-AE5A-46A1-93FD-F3FE282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B81BA8-7EFA-4938-950C-16A4177D5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6E811-DEA5-48F7-803E-1A7EB398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E92A-EEA7-4360-838E-17318C9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8D10-C3C3-4D91-94C6-E6BA41F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163AB-417B-4D10-9373-AED88CAA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F13-72A1-446F-AAA9-3D6E2A1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42FDA-A84B-4A4A-97E5-ED77446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10A0-A6B8-49FD-A949-B186780D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C3F4-0820-428D-8731-A1BC2117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E2E55-400A-4CD8-A6E2-1F3B5AA78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BE65E-9D19-40A3-A65E-B76BB21C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93DE5-F013-4A62-A0DF-FE2BE14EC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7ADA2-7DD3-4118-B854-5BD3A643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26B0-2D67-4947-BE9E-2D8CB679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8EE9D1-F04E-481E-B3E0-F8128AD1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95AD2-B657-4798-A0F3-2C749F1C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BB6-B8FF-40E7-8767-1D630B2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FFB82-2A38-4285-B3E8-D00E1BC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E968E-19E0-4D77-9C4A-6F756254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95D42-A00B-4F9E-BDC8-B1C83A5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F75EE-D93D-49C4-ADB1-084B286F7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2DA14-FA6A-4D9C-8CE4-0DD8A28E5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D027-1CB3-45CE-9169-961498E8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5A316-3FA9-4761-946F-F4C079D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0A24C-32BB-4746-8835-6B41BB01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80226-511A-40EC-98E2-341A3ECC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858E3-A085-42EB-924E-7FA20C92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63A-930F-4093-9B3F-F1196E6A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477F8-5667-40C7-90BE-005C991E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2D1CE-B3F8-4422-8D5A-B49E411C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C98D-9227-4676-8EFB-BBE8ED96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42BEF-45FB-4274-BEFB-CF67B8FF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F6D37-E590-465E-A391-D9E174AF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D84E3-41C4-477D-A50D-42D98015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4EEA7-5B88-4B86-BE64-50E5AF39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F3A09-14D3-4E58-916E-ADE9FD5E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71D47-BC55-43F8-BAA5-BBFD8F58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244C2-2D29-4109-BBCB-4F5660B4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FD08-5412-49EF-877E-82AAEE9A2A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C9F8-66AB-467F-BEE2-1F63DDDED3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FF03-800B-4BE9-A185-794E80D4D3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D134-E432-4DC5-A2A1-2D3F730009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275-A762-482E-90F1-E8E3B7D108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B549-E9A6-4FED-A327-0BFD399238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DEFF-4F6B-4E02-9715-F420C2E9F9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1FFD-0BB2-44B3-9D63-86391713C2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5E0A-43BB-4208-95E1-E20636B06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0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0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D004-02C7-4EFE-AA4F-8A1E360B62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F4F0-E049-4820-B775-A42EAE3B2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6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6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8B65-C088-425B-B595-C3B67BEAA7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605B-0B2C-47E5-A84B-AA2A3511F2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6A96-8CAC-4D32-B142-CA86713BF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2F7E-41CC-4628-AE2C-30F3D60BAE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B9D6-7FC8-4DE9-9321-95C3C1F43C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21BE-E2A0-46F9-83D0-2FA4430BD8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3E58-BC21-4A75-849E-12299AE893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9E29-3CC5-4A2E-A96C-D20E33C9A8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6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414C-9232-4BE1-A210-8874C613A1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05D2-AA2D-4192-BA3D-3A5589057B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3DB0-D830-42D5-8CCB-E4119FD978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1D2B-4DA5-460F-B9E6-9E2A19B505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227-E9D0-422F-A268-74F9E3905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7242-817E-4825-93E4-9815C940C4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5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6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6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E47-6273-4E9B-B72D-5D7F7CBA7B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3FB5-9CF8-4F1D-8102-81119F7FA7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2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779F-EC0B-43DE-8605-4EF9D4C9A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D955-D025-438D-8D66-10AE2D44B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0581-A4D7-4665-9741-D5C59EED08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764B-21CD-46EF-9540-6DBC87001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E107-3A59-4F08-95AC-D2AA1C1DD4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9D9C-04CB-40B4-B6C6-A9A4C56D55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310CE-C5E0-4E4B-83FD-488DA9EDB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EC42-280F-4084-B337-6E77CD5A0C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9C09-C433-41CB-9985-BE6CAC86A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9F32-B17F-44F1-86C5-833E525B2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6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8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6D45-4F06-4766-BE2B-4F54C8197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C162-E453-426E-83DD-25E1F966DE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1" name="图片 2051" descr=""/>
          <p:cNvPicPr/>
          <p:nvPr/>
        </p:nvPicPr>
        <p:blipFill>
          <a:blip r:embed="rId1"/>
          <a:stretch/>
        </p:blipFill>
        <p:spPr>
          <a:xfrm>
            <a:off x="299880" y="2367000"/>
            <a:ext cx="8664840" cy="63036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2052" descr=""/>
          <p:cNvPicPr/>
          <p:nvPr/>
        </p:nvPicPr>
        <p:blipFill>
          <a:blip r:embed="rId2"/>
          <a:stretch/>
        </p:blipFill>
        <p:spPr>
          <a:xfrm>
            <a:off x="709560" y="3645000"/>
            <a:ext cx="77248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3313" descr=""/>
          <p:cNvPicPr/>
          <p:nvPr/>
        </p:nvPicPr>
        <p:blipFill>
          <a:blip r:embed="rId1"/>
          <a:stretch/>
        </p:blipFill>
        <p:spPr>
          <a:xfrm>
            <a:off x="471600" y="952560"/>
            <a:ext cx="8200800" cy="49528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340000" y="355932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7091280" y="3573360"/>
            <a:ext cx="1368360" cy="4492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3981600" y="4321080"/>
            <a:ext cx="863280" cy="4492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5580000" y="4335480"/>
            <a:ext cx="863640" cy="4492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7093080" y="5099040"/>
            <a:ext cx="13665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5" name="图片 22529" descr=""/>
          <p:cNvPicPr/>
          <p:nvPr/>
        </p:nvPicPr>
        <p:blipFill>
          <a:blip r:embed="rId1"/>
          <a:stretch/>
        </p:blipFill>
        <p:spPr>
          <a:xfrm>
            <a:off x="480960" y="1090440"/>
            <a:ext cx="8182080" cy="46771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1547640" y="36450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619280" y="4437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547640" y="522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3" name="图片 21506" descr=""/>
          <p:cNvPicPr/>
          <p:nvPr/>
        </p:nvPicPr>
        <p:blipFill>
          <a:blip r:embed="rId1"/>
          <a:stretch/>
        </p:blipFill>
        <p:spPr>
          <a:xfrm>
            <a:off x="4567320" y="3405240"/>
            <a:ext cx="9360" cy="4752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21507" descr=""/>
          <p:cNvPicPr/>
          <p:nvPr/>
        </p:nvPicPr>
        <p:blipFill>
          <a:blip r:embed="rId2"/>
          <a:stretch/>
        </p:blipFill>
        <p:spPr>
          <a:xfrm>
            <a:off x="185760" y="1838160"/>
            <a:ext cx="8772480" cy="318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258920" y="2852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20481" descr=""/>
          <p:cNvPicPr/>
          <p:nvPr/>
        </p:nvPicPr>
        <p:blipFill>
          <a:blip r:embed="rId1"/>
          <a:stretch/>
        </p:blipFill>
        <p:spPr>
          <a:xfrm>
            <a:off x="485640" y="784080"/>
            <a:ext cx="8172720" cy="60296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826920" y="79380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3" name="图片 8193" descr=""/>
          <p:cNvPicPr/>
          <p:nvPr/>
        </p:nvPicPr>
        <p:blipFill>
          <a:blip r:embed="rId1"/>
          <a:stretch/>
        </p:blipFill>
        <p:spPr>
          <a:xfrm>
            <a:off x="471600" y="917640"/>
            <a:ext cx="8200800" cy="52480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770040" y="98100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3"/>
          <a:stretch/>
        </p:blipFill>
        <p:spPr>
          <a:xfrm>
            <a:off x="826920" y="328464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9217" descr=""/>
          <p:cNvPicPr/>
          <p:nvPr/>
        </p:nvPicPr>
        <p:blipFill>
          <a:blip r:embed="rId1"/>
          <a:stretch/>
        </p:blipFill>
        <p:spPr>
          <a:xfrm>
            <a:off x="752400" y="1447920"/>
            <a:ext cx="7639200" cy="396216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2"/>
          <a:stretch/>
        </p:blipFill>
        <p:spPr>
          <a:xfrm>
            <a:off x="1835280" y="2492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3"/>
          <a:stretch/>
        </p:blipFill>
        <p:spPr>
          <a:xfrm>
            <a:off x="1763640" y="407664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3" name="图片 10241" descr=""/>
          <p:cNvPicPr/>
          <p:nvPr/>
        </p:nvPicPr>
        <p:blipFill>
          <a:blip r:embed="rId1"/>
          <a:stretch/>
        </p:blipFill>
        <p:spPr>
          <a:xfrm>
            <a:off x="528480" y="858960"/>
            <a:ext cx="8087040" cy="5810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3"/>
          <a:stretch/>
        </p:blipFill>
        <p:spPr>
          <a:xfrm>
            <a:off x="900000" y="1628640"/>
            <a:ext cx="505080" cy="4492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4"/>
          <a:stretch/>
        </p:blipFill>
        <p:spPr>
          <a:xfrm>
            <a:off x="942840" y="2349360"/>
            <a:ext cx="505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2289" descr=""/>
          <p:cNvPicPr/>
          <p:nvPr/>
        </p:nvPicPr>
        <p:blipFill>
          <a:blip r:embed="rId1"/>
          <a:stretch/>
        </p:blipFill>
        <p:spPr>
          <a:xfrm>
            <a:off x="85680" y="765000"/>
            <a:ext cx="8972640" cy="6048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258920" y="63500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258920" y="246384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258920" y="1700280"/>
            <a:ext cx="504720" cy="44928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216080" y="5559480"/>
            <a:ext cx="504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1265" descr=""/>
          <p:cNvPicPr/>
          <p:nvPr/>
        </p:nvPicPr>
        <p:blipFill>
          <a:blip r:embed="rId1"/>
          <a:stretch/>
        </p:blipFill>
        <p:spPr>
          <a:xfrm>
            <a:off x="119160" y="755640"/>
            <a:ext cx="890568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36:38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